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2863-1F87-4811-B0F0-8B46574CA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889E-1F80-4246-8CFC-9F6A0EE0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22FE-B3E9-4A51-930F-9BE5B3FF8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996D-ED98-4770-8E48-864290A14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6961-1D69-41A6-9FBB-909B4A37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874A-C063-47CB-9BB5-DFE62C8F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1CA3-10B8-4F38-9ED5-AD939DFE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187B-46F4-42F0-A95A-0476A889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A028-2330-4BE8-B16B-47E45FAE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633A-3C11-4353-A404-F2D506D2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6E2F-3F45-46A0-B22E-8C4DFE44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D209-CE95-4A48-928E-0FBDF1CE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8126-92F4-485B-81C3-2C216E0C7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826920" y="1700280"/>
                <a:ext cx="1729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468360" y="126828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) OBRTANJE TELA OKO NEPOKRETNE TAČKE (sferno kretanj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2492280"/>
            <a:ext cx="410508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 – se kreće po sfernoj površi čiji je poluprečnik AP, a centar u tački 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ložaj tela određuju tri tačke: A, P i Q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, Q – obrtanjem oko A prelaze u 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i Q’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788000" y="1773360"/>
          <a:ext cx="3598920" cy="453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8000" y="1773360"/>
                    <a:ext cx="3598920" cy="45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RENUTNA OSA ROTACIJE.VEKTOR ELEMENTARNE ROTACIJ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39640" y="1916280"/>
                <a:ext cx="4286520" cy="44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r>
                          <m:t xml:space="preserve">Q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  <m:r>
                          <m:t xml:space="preserve">≃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PQ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zbog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epromenljivih rastojanj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∠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AQ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PAQ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t xml:space="preserve">đ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đ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đ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đ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đ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đ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611280" y="155736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Doka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50920" y="595008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e tačke rotiraju za isti uga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932360" y="2060640"/>
          <a:ext cx="3959280" cy="387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32360" y="2060640"/>
                    <a:ext cx="3959280" cy="38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BRZINA I UBRZANJE TAČA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39640" y="2060640"/>
                <a:ext cx="4700520" cy="36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O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eqAr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':</m:t>
                    </m:r>
                    <m:r>
                      <m:rPr>
                        <m:lit/>
                        <m:nor/>
                      </m:rPr>
                      <m:t xml:space="preserve">  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'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O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'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'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'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d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'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translacija</m:t>
                        </m:r>
                      </m:lim>
                    </m:limLow>
                    <m:r>
                      <m:t xml:space="preserve">+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  <m:r>
                                  <m:t xml:space="preserve">'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obrtanje oko tacke A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graphicFrame>
        <p:nvGraphicFramePr>
          <p:cNvPr id="136" name=""/>
          <p:cNvGraphicFramePr/>
          <p:nvPr/>
        </p:nvGraphicFramePr>
        <p:xfrm>
          <a:off x="4680000" y="1628640"/>
          <a:ext cx="4464000" cy="3800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0000" y="1628640"/>
                    <a:ext cx="446400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BRZINA I UBRZANJE TAČA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40" name=""/>
          <p:cNvGraphicFramePr/>
          <p:nvPr/>
        </p:nvGraphicFramePr>
        <p:xfrm>
          <a:off x="752400" y="1341360"/>
          <a:ext cx="5551560" cy="495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2400" y="1341360"/>
                    <a:ext cx="5551560" cy="49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1116000" y="6021360"/>
            <a:ext cx="71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rotacije oko tačke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ugaona brzina tela oko t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5661000"/>
            <a:ext cx="71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transl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95640" y="5300640"/>
            <a:ext cx="71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MATERIJALNE TAČKE KRUTOG T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11280" y="4797360"/>
            <a:ext cx="71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ektor ugaone brzine (ima pravac 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utn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ose obrtanj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EOREMA O PROJEKCIJAMA BRZ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39640" y="1484280"/>
                <a:ext cx="5184720" cy="469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  ; 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Q</m:t>
                            </m:r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  <m:r>
                                  <m:t xml:space="preserve">Q</m:t>
                                </m:r>
                              </m:e>
                            </m:d>
                          </m:den>
                        </m:f>
                      </m:e>
                    </m:eqArr>
                    <m:r>
                      <m:rPr>
                        <m:lit/>
                        <m:nor/>
                      </m:rPr>
                      <m:t xml:space="preserve">DOKAZ: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 / 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P</m:t>
                        </m:r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Q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/ 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P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P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Q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49" name=""/>
          <p:cNvGraphicFramePr/>
          <p:nvPr/>
        </p:nvGraphicFramePr>
        <p:xfrm>
          <a:off x="4859280" y="1773360"/>
          <a:ext cx="4149720" cy="431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1773360"/>
                    <a:ext cx="414972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PROSTORNA DESKRIPC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95280" y="1628640"/>
                <a:ext cx="691200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  :  O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y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;</m:t>
                            </m:r>
                            <m:r>
                              <m:t xml:space="preserve">z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d>
                      </m:e>
                    </m:eqArr>
                    <m:r>
                      <m:rPr>
                        <m:lit/>
                        <m:nor/>
                      </m:rPr>
                      <m:t xml:space="preserve">      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54" name=""/>
          <p:cNvGraphicFramePr/>
          <p:nvPr/>
        </p:nvGraphicFramePr>
        <p:xfrm>
          <a:off x="1547640" y="2781360"/>
          <a:ext cx="4608720" cy="376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2781360"/>
                    <a:ext cx="4608720" cy="37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PROSTORNA DESKRIPC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900000" y="1989000"/>
                <a:ext cx="5400720" cy="374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z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y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z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</m:acc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z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y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z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y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826920" y="1557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OSTORNA DESKRIPCI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00720" y="486900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u prostornoj deskripcij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26920" y="573408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i ovakvom prikazivanju brzine tačka 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je ona tačka tela koja se u trenutku 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zatekla u tački prostora čije su koordinate (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MATERIJALNA DESKRIPC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826920" y="1916280"/>
                <a:ext cx="4478400" cy="46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;</m:t>
                            </m:r>
                            <m:r>
                              <m:t xml:space="preserve">η</m:t>
                            </m:r>
                            <m:r>
                              <m:t xml:space="preserve">;</m:t>
                            </m:r>
                            <m:r>
                              <m:t xml:space="preserve">ζ</m:t>
                            </m: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z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ξ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η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ζ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 </m:t>
                            </m:r>
                            <m:r>
                              <m:t xml:space="preserve">;</m:t>
                            </m:r>
                            <m:r>
                              <m:t xml:space="preserve">q</m:t>
                            </m:r>
                            <m:r>
                              <m:t xml:space="preserve">;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ξ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lim>
                        </m:limLow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lim>
                        </m:limLow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</m:sSub>
                          </m:lim>
                        </m:limLow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p</m:t>
                                  </m:r>
                                </m:e>
                                <m:e>
                                  <m:r>
                                    <m:t xml:space="preserve">q</m:t>
                                  </m:r>
                                </m:e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ξ</m:t>
                                  </m:r>
                                </m:e>
                                <m:e>
                                  <m:r>
                                    <m:t xml:space="preserve">η</m:t>
                                  </m:r>
                                </m:e>
                                <m:e>
                                  <m:r>
                                    <m:t xml:space="preserve">ζ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826920" y="1484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TERIJALNA DESKRIPCI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MATERIJALNA DESKRIPC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6624720" y="3716280"/>
            <a:ext cx="2519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terijal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eskrip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755640" y="1844640"/>
                <a:ext cx="5904000" cy="30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p</m:t>
                                  </m:r>
                                </m:e>
                                <m:e>
                                  <m:r>
                                    <m:t xml:space="preserve">q</m:t>
                                  </m:r>
                                </m:e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ξ</m:t>
                                  </m:r>
                                </m:e>
                                <m:e>
                                  <m:r>
                                    <m:t xml:space="preserve">η</m:t>
                                  </m:r>
                                </m:e>
                                <m:e>
                                  <m:r>
                                    <m:t xml:space="preserve">ζ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2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qζ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μη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pζ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rξ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pη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qξ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755640" y="5157720"/>
            <a:ext cx="83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materijalnoj deskripciji data je brzina tačke 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tela čije su materijalne koordinate (</a:t>
            </a: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ξ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μ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ζ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 i konstante su u vremenu dok se telo kreć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SFERNO KRETA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50" name=""/>
          <p:cNvGraphicFramePr/>
          <p:nvPr/>
        </p:nvGraphicFramePr>
        <p:xfrm>
          <a:off x="5078520" y="1600200"/>
          <a:ext cx="3176640" cy="218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8520" y="1600200"/>
                    <a:ext cx="317664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5219640" y="3908520"/>
          <a:ext cx="3529080" cy="242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9640" y="3908520"/>
                    <a:ext cx="352908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684360" y="1341360"/>
            <a:ext cx="7777080" cy="44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van kroz A, P, 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seče sferu po velikom krugu čiji je deo P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sto važi i za ravan A, Q, Q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M=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QN=N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M - je deo velikog kruga sfere u rav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ormalnoj na tangentu u tački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N – je deo velikog kruga sfere u rav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ormalnoj na tangentu u tački 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755640" y="2637000"/>
          <a:ext cx="360360" cy="160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5640" y="263700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258920" y="2637000"/>
          <a:ext cx="360360" cy="160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58920" y="263700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755640" y="3068640"/>
          <a:ext cx="360360" cy="160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5640" y="306864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1258920" y="3068640"/>
          <a:ext cx="360360" cy="160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258920" y="306864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971640" y="3933720"/>
          <a:ext cx="360360" cy="160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971640" y="3933720"/>
                    <a:ext cx="360360" cy="1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971640" y="4869000"/>
          <a:ext cx="360360" cy="1602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971640" y="486900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SFERNO KRETA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539640" y="4869000"/>
                <a:ext cx="5184720" cy="14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PCQ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  /  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rPr>
                            <m:lit/>
                            <m:nor/>
                          </m:rPr>
                          <m:t xml:space="preserve">QCP'</m:t>
                        </m:r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PCQ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rPr>
                            <m:lit/>
                            <m:nor/>
                          </m:rPr>
                          <m:t xml:space="preserve">QCP'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QCP'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PCP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QCQ</m:t>
                        </m:r>
                        <m:r>
                          <m:t xml:space="preserve">'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900000" y="2133720"/>
                <a:ext cx="559116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'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 - telo je kruto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  <m:r>
                          <m:t xml:space="preserve">'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  <m:r>
                          <m:t xml:space="preserve">'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611280" y="1341360"/>
            <a:ext cx="7777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PQ ≈ </a:t>
            </a:r>
            <a:r>
              <a:rPr b="0" lang="sr-Latn-C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ka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3141720"/>
            <a:ext cx="777744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r je C u ravni simetr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dnakost stranic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PQ = </a:t>
            </a: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 → 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Q →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508720" y="2852640"/>
          <a:ext cx="3311280" cy="299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08720" y="2852640"/>
                    <a:ext cx="3311280" cy="29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2700360" y="2060640"/>
          <a:ext cx="360360" cy="16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00360" y="206064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3419640" y="2060640"/>
          <a:ext cx="360360" cy="160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19640" y="206064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3924360" y="2565360"/>
          <a:ext cx="360360" cy="160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24360" y="256536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643280" y="2565360"/>
          <a:ext cx="360360" cy="160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43280" y="256536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6012000" y="2565360"/>
          <a:ext cx="360360" cy="160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012000" y="256536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5292720" y="2565360"/>
          <a:ext cx="360360" cy="1602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292720" y="256536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SFERNO KRETA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611280" y="1341360"/>
            <a:ext cx="777708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LAMBEROVA TEORE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ako telo koje ima nepokretnu tačku možemo prevesti iz jednog u drugi položaj obrtanjem oko jedne ose koja prolazi kroz nepokretnu tač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a osa naziva se osom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ekvivalentne rota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SFERNO KRETA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684360" y="2133720"/>
                <a:ext cx="40320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'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'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611280" y="1341360"/>
            <a:ext cx="4321080" cy="39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 izvršeno pomeranje tela primenjujemo Rodrigov obraza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je ugao obrtanja oko ose ekvivalentne rotacije pri kome prelaz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 → 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Q →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356000" y="1628640"/>
          <a:ext cx="4321440" cy="431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56000" y="1628640"/>
                    <a:ext cx="432144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611280" y="1700280"/>
                <a:ext cx="4752720" cy="24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QP</m:t>
                        </m:r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trans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lim>
                        </m:limUpp>
                        <m:r>
                          <m:t xml:space="preserve">ΔA</m:t>
                        </m:r>
                        <m:r>
                          <m:t xml:space="preserve">'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/>
                        </m:sSup>
                        <m:sSup>
                          <m:e>
                            <m:r>
                              <m:t xml:space="preserve">P</m:t>
                            </m:r>
                          </m:e>
                          <m:sup/>
                        </m:sSup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obr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lim>
                        </m:limUpp>
                        <m:r>
                          <m:t xml:space="preserve">ΔA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'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'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p/>
                        </m:sSup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'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'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p/>
                        </m:sSup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p/>
                        </m:sSup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p/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468360" y="126828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) OPŠTI SLUČAJ KRETAN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240000" y="2637000"/>
          <a:ext cx="5904000" cy="368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0" y="2637000"/>
                    <a:ext cx="5904000" cy="36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755640" y="5877000"/>
                <a:ext cx="38955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'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611280" y="1341360"/>
            <a:ext cx="777708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ako konačno pomeranje tela sastoji se od translacije tela i rotacije oko one tačke tela koja je translacijom dospela u svoj definitivan položaj. Moguć je i obrnuti r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je P- proizvoljna tačka, A- referentna tačka, ta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835280" y="2349360"/>
          <a:ext cx="5400720" cy="371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2349360"/>
                    <a:ext cx="5400720" cy="37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RENUTNA OSA ROTACIJE.VEKTOR ELEMENTARNE ROTACIJ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10" name=""/>
          <p:cNvGraphicFramePr/>
          <p:nvPr/>
        </p:nvGraphicFramePr>
        <p:xfrm>
          <a:off x="849240" y="2637000"/>
          <a:ext cx="3700440" cy="22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9240" y="2637000"/>
                    <a:ext cx="370044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846000" y="4937040"/>
          <a:ext cx="1401840" cy="1373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6000" y="4937040"/>
                    <a:ext cx="1401840" cy="13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611280" y="1413000"/>
            <a:ext cx="777708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Pri obrtanju tela oko nepokretne tačke za svako beskonačno malo pomeranje koje se odigrava u intervalu vremena (t, t+dt) postoji osa obrtanja oko koje se telo obrtanjem prevodi iz prvog u drugi beskonačno blizak položaj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Ova osa se naziva 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trenutna osa rotacije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16000" y="5013360"/>
            <a:ext cx="39607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 Jedini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čni vektor trenutne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obrt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95640" y="5445000"/>
            <a:ext cx="4032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Vektor elementarne rotacij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4360" y="6308640"/>
            <a:ext cx="5040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Površ koju opisuje snop trenutnih osa je aksoi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292720" y="2205000"/>
          <a:ext cx="3328920" cy="4394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92720" y="2205000"/>
                    <a:ext cx="332892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RENUTNA OSA ROTACIJE.VEKTOR ELEMENTARNE ROTACIJ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611280" y="1700280"/>
            <a:ext cx="295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ije diferencijal, nego je to beskonačno mala veličina definisana u odnosu na trenutnu osu obrt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4869000"/>
            <a:ext cx="8280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STAV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 sfernom kretanju sve tače tela vrše obrtanje oko iste trenutne ose obrtanja za isti ugao i u istom smeru u posmatranom intervalu vremena, t.j. Vektor elementarna rotacije ne zavisi od položaja tačke u te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788000" y="1557360"/>
          <a:ext cx="2446200" cy="374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8000" y="1557360"/>
                    <a:ext cx="244620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6-10-18T10:06:44Z</dcterms:modified>
  <cp:revision>288</cp:revision>
  <dc:subject/>
  <dc:title>ТЕХНИЧКА МЕХАНИКА 2</dc:title>
</cp:coreProperties>
</file>